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7F42-9020-4546-A6E4-C492141059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8137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 Tipo di quesito: abbin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dall’alto: aperto, chiuso, chiuso, chiuso, ape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Esatto. Con gli anedoctal records e gli strumenti “carta e penna”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trumenti utilizzano invece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rrata: Attenzione, non hai assegnato tutti i valori corr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non fornita: Anedoctal records e strumenti “carta e penna” sono aperti in quanto l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dificazione dei dati avviene senza aver predefinito categorie di analisi; gli altri sono strumenti chiusi perché non utilizzano categorie predefi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81024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: immagine 73030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 Quesito vero/f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sposta esatta: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: l’osservazione viene effettuata, per definizione, in contesti real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Infatti si tratta di un esperimento condotto in un contesto artifici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1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19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Quesito a scelta multip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posta esatta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: in questo caso l’obiettivo dell’osservazione va oltre la semplice de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rio così! L’osservazione è finalizzata a una decisione di tipo form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si tratta di verifica in quanto non si sta utilizzando l’osservazione per misurare la validità di un’ipotesi, ma piuttosto per agire in futu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20280" y="434340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esto degli approfondiment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trutturata (o sistematica)/Non struttur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struttura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ha uno scopo preciso definito a priori, opera su soggetti ben delimitati e dispone di un sistema pianificato di raccolta e classificazione delle informazioni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struttura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utilizzata in genere a fini esplorativi, allo scopo di raccogliere informazioni “sul campo” in vista di una precisazione delle ipotesi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Partecipante/Non partecipan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partecipant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il metodo tipicamente usato in etnografia e consiste nella raccolta di informazioni da parte di un ricercatore che osserva e registra quanto avviene in un gruppo con il quale interagisce e nel quale si inserisce allo scopo di studiarne la realtà. Nel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non partecipant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osservatore è esterno alla realtà studiata, anche se utilizza gli stessi strumenti dell’osservatore partecipant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Spontanea (o occasional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tipo di osservazione è scientificamente meno valida e affidabile. Ogni persona può raccogliere informazioni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Diretta/ Indiret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dirett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è centrata sui processi e prevede che l’osservazione e la registrazione degli eventi avvengano contemporaneamente. L’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osservazione indiretta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è centrata sui prodotti e lo scopo è osservare determinati comportamenti e situazioni in differita rispetto alla situazione in esam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28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grafico: immagine 73003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80880"/>
            <a:ext cx="914400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6264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19040"/>
            <a:ext cx="9144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45820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620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firstslide"/>
          </p:cNvPr>
          <p:cNvSpPr/>
          <p:nvPr/>
        </p:nvSpPr>
        <p:spPr>
          <a:xfrm>
            <a:off x="3049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>
            <a:off x="6477120" y="6486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20640" y="14400"/>
            <a:ext cx="790884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Gli strumenti di rile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</a:rPr>
              <a:t>1. L’osservazione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Pagina </a:t>
            </a:r>
            <a:fld id="{E2091560-AA71-4EA5-B726-DD6A5667E2BC}" type="slidenum">
              <a:rPr b="1" lang="it-IT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1400" spc="-1" strike="noStrike">
                <a:solidFill>
                  <a:srgbClr val="ffffff"/>
                </a:solidFill>
                <a:latin typeface="Verdana"/>
              </a:rPr>
              <a:t> di 17</a:t>
            </a:r>
            <a:r>
              <a:rPr b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86520" y="20750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52578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000" y="2362320"/>
            <a:ext cx="544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6640" y="1460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1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senza aver predefinito categorie di anali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61936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codificazione dei dati avviene utilizzando categorie prestabil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886200"/>
            <a:ext cx="3597480" cy="179748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zioni dal vivo “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rta e penn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gistrazioni audio e vi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tografie e le diapos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nedoctal records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3962520"/>
            <a:ext cx="3444840" cy="15541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riglie di osservazione (liste di controllo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 sistemi 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valut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5867280"/>
            <a:ext cx="815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insieme alcuni di questi strumen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209680"/>
            <a:ext cx="35812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2209680"/>
            <a:ext cx="350532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00200"/>
            <a:ext cx="830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li strumenti utilizzati per l’osservazione possono esse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ert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ius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276720"/>
            <a:ext cx="76176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3352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465e75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3200"/>
            <a:ext cx="8305920" cy="3200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89120"/>
            <a:ext cx="83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iste di controll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 lis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) sono elenchi di comportamenti attesi, o di caratteristiche, la cui presenza o frequenza viene rilevata in un soggetto durante una definita unità di tempo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895480"/>
            <a:ext cx="7543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 ……………….   Sigla osservatore…………….. Data ………….    Ora ………………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 dell’alunno coordinatore del gruppo …………………..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rgomento della discussione ……………….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71680" y="3733920"/>
            <a:ext cx="8000640" cy="2057400"/>
            <a:chOff x="571680" y="3733920"/>
            <a:chExt cx="8000640" cy="2057400"/>
          </a:xfrm>
        </p:grpSpPr>
        <p:grpSp>
          <p:nvGrpSpPr>
            <p:cNvPr id="121" name=""/>
            <p:cNvGrpSpPr/>
            <p:nvPr/>
          </p:nvGrpSpPr>
          <p:grpSpPr>
            <a:xfrm>
              <a:off x="578880" y="3736080"/>
              <a:ext cx="7985520" cy="2052360"/>
              <a:chOff x="578880" y="3736080"/>
              <a:chExt cx="7985520" cy="20523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578880" y="3736080"/>
                <a:ext cx="4396320" cy="342000"/>
                <a:chOff x="578880" y="3736080"/>
                <a:chExt cx="4396320" cy="3420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6920" y="3736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8880" y="3736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975560" y="3736080"/>
                <a:ext cx="3588840" cy="342000"/>
                <a:chOff x="4975560" y="3736080"/>
                <a:chExt cx="3588840" cy="342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043600" y="3736080"/>
                  <a:ext cx="34524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Membri del grupp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975560" y="3736080"/>
                  <a:ext cx="358884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8880" y="4078080"/>
                <a:ext cx="4396320" cy="342000"/>
                <a:chOff x="578880" y="4078080"/>
                <a:chExt cx="4396320" cy="3420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46920" y="4078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8880" y="4078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975560" y="4078080"/>
                <a:ext cx="896760" cy="342000"/>
                <a:chOff x="4975560" y="4078080"/>
                <a:chExt cx="896760" cy="34200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4360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Pier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97556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872680" y="4078080"/>
                <a:ext cx="896760" cy="342000"/>
                <a:chOff x="5872680" y="4078080"/>
                <a:chExt cx="896760" cy="34200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5941080" y="4078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Lor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87268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69800" y="4078080"/>
                <a:ext cx="897120" cy="342000"/>
                <a:chOff x="6769800" y="4078080"/>
                <a:chExt cx="897120" cy="3420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838200" y="4078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Sa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69800" y="4078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667640" y="4078080"/>
                <a:ext cx="896760" cy="342000"/>
                <a:chOff x="7667640" y="4078080"/>
                <a:chExt cx="896760" cy="3420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735680" y="4078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E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667640" y="4078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78880" y="4420080"/>
                <a:ext cx="4396320" cy="342000"/>
                <a:chOff x="578880" y="4420080"/>
                <a:chExt cx="4396320" cy="3420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46920" y="442008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1. Invita ad esprimers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8880" y="442008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4975560" y="4420080"/>
                <a:ext cx="896760" cy="342000"/>
                <a:chOff x="4975560" y="4420080"/>
                <a:chExt cx="896760" cy="3420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504360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97556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872680" y="4420080"/>
                <a:ext cx="896760" cy="342000"/>
                <a:chOff x="5872680" y="4420080"/>
                <a:chExt cx="896760" cy="342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5941080" y="442008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87268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769800" y="4420080"/>
                <a:ext cx="897120" cy="342000"/>
                <a:chOff x="6769800" y="4420080"/>
                <a:chExt cx="897120" cy="3420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8200" y="442008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69800" y="442008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667640" y="4420080"/>
                <a:ext cx="896760" cy="342000"/>
                <a:chOff x="7667640" y="4420080"/>
                <a:chExt cx="896760" cy="342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735680" y="442008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67640" y="442008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8880" y="4762440"/>
                <a:ext cx="4396320" cy="342000"/>
                <a:chOff x="578880" y="4762440"/>
                <a:chExt cx="4396320" cy="34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46920" y="4762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2. Discute, polemizza, si mostra in disaccord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8880" y="4762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4975560" y="4762440"/>
                <a:ext cx="896760" cy="342000"/>
                <a:chOff x="4975560" y="4762440"/>
                <a:chExt cx="896760" cy="34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4360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97556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872680" y="4762440"/>
                <a:ext cx="896760" cy="342000"/>
                <a:chOff x="5872680" y="4762440"/>
                <a:chExt cx="896760" cy="34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5941080" y="4762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87268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769800" y="4762440"/>
                <a:ext cx="897120" cy="342000"/>
                <a:chOff x="6769800" y="4762440"/>
                <a:chExt cx="897120" cy="34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838200" y="4762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769800" y="4762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7667640" y="4762440"/>
                <a:ext cx="896760" cy="342000"/>
                <a:chOff x="7667640" y="4762440"/>
                <a:chExt cx="896760" cy="3420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7735680" y="4762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667640" y="4762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78880" y="5104440"/>
                <a:ext cx="4396320" cy="342000"/>
                <a:chOff x="578880" y="5104440"/>
                <a:chExt cx="4396320" cy="3420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46920" y="5104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3. Privilegia le idee di alcuni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78880" y="5104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75560" y="5104440"/>
                <a:ext cx="896760" cy="342000"/>
                <a:chOff x="4975560" y="5104440"/>
                <a:chExt cx="896760" cy="3420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04360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7556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5872680" y="5104440"/>
                <a:ext cx="896760" cy="342000"/>
                <a:chOff x="5872680" y="5104440"/>
                <a:chExt cx="896760" cy="3420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1080" y="5104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7268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6769800" y="5104440"/>
                <a:ext cx="897120" cy="342000"/>
                <a:chOff x="6769800" y="5104440"/>
                <a:chExt cx="897120" cy="3420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838200" y="5104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769800" y="5104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667640" y="5104440"/>
                <a:ext cx="896760" cy="342000"/>
                <a:chOff x="7667640" y="5104440"/>
                <a:chExt cx="896760" cy="3420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735680" y="5104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667640" y="5104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578880" y="5446440"/>
                <a:ext cx="4396320" cy="342000"/>
                <a:chOff x="578880" y="5446440"/>
                <a:chExt cx="4396320" cy="3420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46920" y="5446440"/>
                  <a:ext cx="42595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  <a:ea typeface="Tahoma"/>
                    </a:rPr>
                    <a:t>4. Sostiene, aiuta, incoragg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78880" y="5446440"/>
                  <a:ext cx="43963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975560" y="5446440"/>
                <a:ext cx="896760" cy="342000"/>
                <a:chOff x="4975560" y="5446440"/>
                <a:chExt cx="896760" cy="342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04360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97556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872680" y="5446440"/>
                <a:ext cx="896760" cy="342000"/>
                <a:chOff x="5872680" y="5446440"/>
                <a:chExt cx="896760" cy="3420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941080" y="5446440"/>
                  <a:ext cx="75996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7268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769800" y="5446440"/>
                <a:ext cx="897120" cy="342000"/>
                <a:chOff x="6769800" y="5446440"/>
                <a:chExt cx="897120" cy="342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38200" y="5446440"/>
                  <a:ext cx="75960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769800" y="5446440"/>
                  <a:ext cx="89712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667640" y="5446440"/>
                <a:ext cx="896760" cy="342000"/>
                <a:chOff x="7667640" y="5446440"/>
                <a:chExt cx="896760" cy="342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735680" y="5446440"/>
                  <a:ext cx="760320" cy="34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67640" y="5446440"/>
                  <a:ext cx="896760" cy="34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3" name=""/>
            <p:cNvSpPr/>
            <p:nvPr/>
          </p:nvSpPr>
          <p:spPr>
            <a:xfrm>
              <a:off x="571680" y="3733920"/>
              <a:ext cx="80006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1600200"/>
            <a:ext cx="83822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e di osserv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o guide che forniscono indicazioni sui comportamenti da osservare corredate da uno spazio per annotare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tore sa già così “cosa cercare” nel comportamento altrui ed è aiutato nella rilevazione di tali comportamen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o è un esempio d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iglia di categori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828800" y="3809880"/>
          <a:ext cx="5562720" cy="16750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ha amici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ccetta i consigli dei compag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aiuta i compagni in difficolt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parla volentieri di sé in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’allievo studia a casa con i compagni di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1519200"/>
            <a:ext cx="84582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cale di valutaz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rating sc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) consentono di rilevare l'intensità o la frequenza di un comportamento, oppure di esprimere un giudizio su intenzioni/opinioni o atteggiamenti dei soggetti osserv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sservatore effettua la valutazione indicand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rado di accord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con un’ipotesi o il su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giudizi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di presenza di un dato carattere, in corrispondenza di una serie di proposizion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5638680"/>
            <a:ext cx="853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’attribuzione del giudizio viene fatta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ttraverso l’indicazione di un numero, un aggettivo o scegliendo tra diverse descrizioni analitiche forn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3352680"/>
          <a:ext cx="8305920" cy="2057400"/>
        </p:xfrm>
        <a:graphic>
          <a:graphicData uri="http://schemas.openxmlformats.org/drawingml/2006/table">
            <a:tbl>
              <a:tblPr/>
              <a:tblGrid>
                <a:gridCol w="3276720"/>
                <a:gridCol w="914400"/>
                <a:gridCol w="685800"/>
                <a:gridCol w="1219320"/>
                <a:gridCol w="990360"/>
                <a:gridCol w="121932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 n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basta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ltiss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 Sorveglia l’andamento del lavo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egola il lavoro di grup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 Cura l’uso de tem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. Si limita a seguire gli altri, è pas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0880" y="1600200"/>
            <a:ext cx="853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brevi episod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o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nedoctal record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, consentono la registrazione di brevi episodi all’interno di schede che prevedono l’esplicitazione del contesto in cui avvengono tali episodi. 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7080" y="58960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GATTULLO-GIOVANNINI, 1989, p.14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590920"/>
            <a:ext cx="7391160" cy="3290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Classe…………….. Sigla osservatore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Data ………………. Ora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Nome e cognome dell’alunno………………………………………………………………………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Situazione generale in cui si inserisce l’osserv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Breve episo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Informazioni aggiun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………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Infine, questo è un esempio di strumento “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carta e penna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209680"/>
            <a:ext cx="7924680" cy="371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segue F e la osserva mentre F canticchia. A gironzola osservando F che canticchia e dispone di mobiletti. A sparisce per un po’ dalla visuale, torna con due bambole. A mostra una bambola a F chiedendole “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questa è la tua bambin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?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A dice “to’ allora che piange” e porge la bambola a F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la rifiuta dicendo “no, non è la mia bambina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con le due bambole va alla cucinetta dove osserva due compagne che giocano con le stoviglie. Torna al tavolo a guardare F che dispone i mobiletti sul tavolo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le chiede “è la casetta della tua bambina?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 risponde “sì”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ice “anch’io sono una mamma”, poi mostra a C una bambola e le chiede “è la tua bambina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C non rispon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A depone una delle bambole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tringe l’altro bambolotto al petto e dice “sst ss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”, poi dice qualcosa sottovoce a D. Osserva F e la segue. Dice qualcosa di incomprensibile, si gratta la testa, va verso la finestra, tocca alcuni oggetti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culla il bambolotto tenendolo in braccio, dice “questa è la sua amica” e prende un’altra bambol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. Osserva le bambine alla cas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579132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(FONTE: BONDIOLI- SAVIO, 1994, p.118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0880" y="1600200"/>
            <a:ext cx="792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Riassumendo, sapresti classificare i seguenti strumenti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996840"/>
            <a:ext cx="32767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li strumenti per osserv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5781600"/>
            <a:ext cx="5333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nelle caselle corrisponden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286000"/>
            <a:ext cx="24382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APER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2840" y="2286000"/>
            <a:ext cx="236196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RUMENTI CHI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944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servazioni dal vivo “carta e pen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274320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hede di registrazione di brevi episodi (anedoctal reco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32900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heck-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3357720"/>
            <a:ext cx="3276720" cy="33732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riglie di 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14840"/>
            <a:ext cx="327672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cale di valutazione (rating sc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46753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273852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430992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733920" y="3352680"/>
            <a:ext cx="2438280" cy="36216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71016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6800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74320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431496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3357720"/>
            <a:ext cx="2438280" cy="36180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714840"/>
            <a:ext cx="2438280" cy="580680"/>
          </a:xfrm>
          <a:prstGeom prst="rect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971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15200" y="29764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43836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34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94344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39481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4146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44197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4871880"/>
            <a:ext cx="15228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487692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62600" y="1035000"/>
            <a:ext cx="1128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7924680" cy="43434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6765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’osservazione può avere diverse funzioni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crittiva, Euristica, (diagnostica o di scoperta), Formativa, di Verifica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t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base al modo in cui viene condotta, l’osservazione può essere classificata come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, Partecipante/ Non partecipante, Spontanea (occasionale), Diretta/ Indi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Gli strumenti di osservazione possono essere chiusi (osservazioni dal vivo “carta e penna”, anedoctal records, etc.) o aperti (check-list, scale di valutazione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59400" y="1066680"/>
            <a:ext cx="3441600" cy="4711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809880"/>
            <a:ext cx="312408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11560"/>
            <a:ext cx="327672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questa lezione parleremo della funzione e dei metodi dell’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ma di iniziare definiamo il concetto di osservazi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servare significa descrivere le caratteristiche di un  evento, di un comportamento o di una situazione in contesti reali e non artificialmente predisposti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981080"/>
            <a:ext cx="1752840" cy="1676520"/>
          </a:xfrm>
          <a:prstGeom prst="donut">
            <a:avLst>
              <a:gd name="adj" fmla="val 6564"/>
            </a:avLst>
          </a:prstGeom>
          <a:solidFill>
            <a:srgbClr val="5f5f5f"/>
          </a:solidFill>
          <a:ln w="12600">
            <a:solidFill>
              <a:srgbClr val="18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81952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o te, l’attività descritta qui accanto è un esempio di osservazion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15160" y="412596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15160" y="4492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4021200"/>
            <a:ext cx="1752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2808000" cy="3581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2120" y="1905120"/>
            <a:ext cx="3200400" cy="914400"/>
          </a:xfrm>
          <a:prstGeom prst="wedgeRectCallout">
            <a:avLst>
              <a:gd name="adj1" fmla="val -51092"/>
              <a:gd name="adj2" fmla="val 9774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Vediamo come si comporta quest’uomo all’interno di un labirinto. Come troverà l’usci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155680"/>
            <a:ext cx="3810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L'osservazione permette d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e in esame variabili ritenut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sservare un evento nel suo ambiente naturale e nel momento in cui acc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tudiare per un determinato periodo di tempo una situaz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izzare in profondità un ca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68520"/>
            <a:ext cx="762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iù in particolare, l’osservazione ha le seguenti funzion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9480" y="2057400"/>
          <a:ext cx="8001000" cy="405756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escrit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descrivere la situazione o il fenomeno osserva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uristica (diagnostica o di scopert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 emergere ipotesi pertinenti, che saranno ulteriormente sottoposte ad attività di controll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orm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agire sulla base di quanto osservato e si agisce per formare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eri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una situazione manipolata o provocata per poter verificare un’ipotesi e quindi si utilizza l’osservazione come strumento di misurazione delle variabili riguardanti l’ipotesi stess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alut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 osserva per fare delle valutazioni e sulla loro base assumere decisioni sull’azione da intraprendere. L’azione sarà a sua volta sottoposta a valutazione, e dunque all’osservazione, per una nuova decisio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8600" y="996840"/>
            <a:ext cx="304812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 cosa serve 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543040"/>
            <a:ext cx="358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funzione ha l’osservazione che sarà effettuata da questa insegnan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24382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m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68604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40244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5334120"/>
            <a:ext cx="33530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la risposta che preferis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38624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0" b="18229"/>
          <a:stretch/>
        </p:blipFill>
        <p:spPr>
          <a:xfrm>
            <a:off x="1219320" y="2971800"/>
            <a:ext cx="2722320" cy="3048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1676520"/>
            <a:ext cx="3810240" cy="1295280"/>
          </a:xfrm>
          <a:prstGeom prst="wedgeRectCallout">
            <a:avLst>
              <a:gd name="adj1" fmla="val -1500"/>
              <a:gd name="adj2" fmla="val 6409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ndo osservare il rendimento scolastico degli studenti nel primo semestre. Su questa base deciderò come impostare il programma di insegnamento del secondo semest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905120" y="2768760"/>
          <a:ext cx="4647960" cy="2184120"/>
        </p:xfrm>
        <a:graphic>
          <a:graphicData uri="http://schemas.openxmlformats.org/drawingml/2006/table">
            <a:tbl>
              <a:tblPr/>
              <a:tblGrid>
                <a:gridCol w="4647960"/>
              </a:tblGrid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182972"/>
                      </a:solidFill>
                    </a:lnL>
                    <a:lnR w="13680">
                      <a:solidFill>
                        <a:srgbClr val="182972"/>
                      </a:solidFill>
                    </a:lnR>
                    <a:lnT w="13680">
                      <a:solidFill>
                        <a:srgbClr val="182972"/>
                      </a:solidFill>
                    </a:lnT>
                    <a:lnB w="13680">
                      <a:solidFill>
                        <a:srgbClr val="182972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457200" y="1523880"/>
            <a:ext cx="8001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bbiamo visto che l’osservazione può avere diversi scopi (o funzion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sa può essere anche condotta in diversi modi, in base ai quali può essere classificata co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996840"/>
            <a:ext cx="4952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Modalità di classificazione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5629320"/>
            <a:ext cx="45720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 ogni opzione per leggere la descriz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2844720"/>
            <a:ext cx="48006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trutturata (sistematica)/ Non struttur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Partecipante/ Non partecip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pontanea (occasional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iretta/ Indir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765520"/>
            <a:ext cx="4876920" cy="32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reattività dei soggetti osservati e dell’osservato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difficoltà di quantificazione dei d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dimensioni ridotte del camp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ancanza di anonimato di chi viene osserv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 scarso grado di attendibilità della mis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caratteristiche dell’osservatore/ricercatore:  paradigmi, valori o condizioni psico-fisi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tecniche di registrazione e di codifica dei dati che varia in relazione all’uso di sistemi strutturati o non strutturati di osserv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scarsa attenzione al contes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41400"/>
            <a:ext cx="495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uando si utilizza la tecnica dell’osservazione, occorre tener presenti i seguenti problemi che sono ad essa leg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106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1447920"/>
            <a:ext cx="3581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1600200"/>
            <a:ext cx="358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56272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981080"/>
            <a:ext cx="4191120" cy="40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superare i limiti dell’osservazione è necessari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he cos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e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quand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sservare. E’ necessario perciò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elimitar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ampo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ciò che si vuole osserva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ura, criteri e str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utilizzare per l’osservazione e la registrazione dei dat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tempi e i luogh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 cui effettuare l’osservazion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bilire l’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unità di osservazi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i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ipo di anali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a effettua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6840"/>
            <a:ext cx="36576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uperare i limiti dell’osserv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13:38:17Z</dcterms:created>
  <dc:creator>Pentium Processor</dc:creator>
  <dc:description/>
  <dc:language>en-US</dc:language>
  <cp:lastModifiedBy>Poste Italiane S.p.A.</cp:lastModifiedBy>
  <dcterms:modified xsi:type="dcterms:W3CDTF">2005-03-07T11:21:36Z</dcterms:modified>
  <cp:revision>202</cp:revision>
  <dc:subject/>
  <dc:title>Presentazione di PowerPoint</dc:title>
</cp:coreProperties>
</file>